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490B2-9EA7-4B94-A5CA-01E75161C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F3D08-3E6E-4E8A-8D8D-B1AFC3E66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3A76F7-507D-46D5-8FA1-B768C6603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D8BCFF-2EBA-4347-AC00-D133A959B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64DED4F-1FC1-4F6B-82D8-9905D6994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656A53-6C78-4186-B9D1-05D4AE54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62F497-7501-477B-A944-E003DC2A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7DAA32-E3EC-4C32-82A2-589F1D57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F7B5CA-3CE6-4AE3-B680-9C534C5A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72CF2E-BD36-4F35-A8F1-2FE534B24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1E31A1-84ED-435B-BC74-97B012FB6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27A992F-88DF-42E6-B3A7-EF8A0728B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91AA8-07EB-4D05-A038-42E9D2EBE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2A34774-65B6-4771-9F15-6E69EA03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68CBE9A-D14E-42AC-B61A-956FC636F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C738267-937D-49D6-8C07-B3195F38C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6F6ACF9-A2F5-4FB4-AFB1-BE2FCE02B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53D4102-C770-4D84-A194-A27DAED87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266BD27-75A3-4B48-9D0B-80CA3EA3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E05D202-66F3-463F-B96E-49CFEB76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55857C8-B21A-41BD-BD56-CE06EAAD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A8481CD-92C5-4163-B485-868A907BD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E5A6E34-DE85-410C-BEF6-3C2273D1B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04655-7BF4-4D5E-BB51-2AAB52836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EC8D441-5E2C-4F3E-9825-45AAE2112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CA9AF46-078A-41ED-AF5C-F5B3832FC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78EDF2E-3F34-4541-9AF1-9972B82C2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5D95BA7-FBD9-4DF7-AA55-513EDD7F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B79450E-B81C-4235-8AF9-EA18E6AD1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A1F1A02-7C79-4C6B-819F-57DEE80E0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A07F7D0-DA2B-4784-BC3C-971F45054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2C5671C-F183-416A-9A38-A868EF75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F1BFED6-BCB9-4C94-AA29-FA2D6243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81EE176-02BA-4D1C-9E98-D5DD4D92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09A7F-9F1D-4DE2-815C-5A33E017C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B1E355B-DA52-418E-AF71-A8D01E3C8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06F548B-01CF-431D-8B17-8477BFEB3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33BD06F-4265-48D5-A4CE-2B68461D1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CCD9586-8CEB-4807-9ED6-45DE75992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9033F6F-1E7E-400E-BEA2-AF866E7B1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A575585-347A-4524-9730-268E98768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FE4C67B-091C-460C-A587-E6DEB5FE9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3D539B9-3B38-46F0-BB37-9B4A0EA58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155C083-2BCB-44E8-B564-3A8F2E572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B306987-7BAC-4B9E-BA05-1795FA2C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6EAFB-FC88-4497-9421-92BA4954C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9EACC7F-D280-45E4-915B-A0EAC32C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D375F56-B65F-45A2-A069-934C5E4C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71FAF1F-1C77-49A8-A996-F0D595779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12365BD-EEBF-496A-BAED-95F78859C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67CA7B0-C909-41A2-A048-9F29A083E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144D9-8636-47F3-ABA4-E7695CAC2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5EE34-B141-4A40-8012-05821024E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18944-6E9C-4F13-9BED-E12DAD109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73DF9-3948-4C88-9834-5FF3DB30D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432A6-0F25-4A8B-98BC-58662D79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A171A-E074-42DA-A885-CFA40115A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1B40D-A753-40C6-9CD9-793E35F8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35462-A680-4F97-9F88-8B607533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6E368-9F34-4C98-B325-ADFB3DB2B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9729E-0684-49C3-831D-78DC2936E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AA90D-B6D7-47F2-906F-2B01E7F38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56A74C-667C-4887-BFB3-FE18B1A80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2508D5-7E5C-4E8D-B2E5-6FE2BB91E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07B07F-0093-47D2-967B-38244FC71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08D69B-AD40-4B59-A150-F720C2CB8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CD4045-80A6-4DF9-B2EA-1A40B371F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9364A-1C80-410E-B5DC-B763B0CAE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3F8D4A-5868-4CDE-9017-B949E41C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EB5296-AB56-4D57-8764-6D484A02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273CED-6A55-421B-90AB-81CFE6AE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24D8EB-9C5F-4263-865D-11FE9B42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457054-3D7E-4CF3-BED3-C516F24F1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1487D2-6D96-45F4-BAAC-6473DBC4D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880A3C-E2FD-4084-9089-F4A875906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CDC7AD-74C4-4A5F-B929-09C33ECEF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741BEA-FFAD-42D4-A56E-289A49696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A52057-6AAA-4FAB-8497-58A30163A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CFEFE-E6B0-49C2-894A-15D1EA1E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74504D-AA18-4EA7-BC84-37DDBCA63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5B6F15-855C-4C3C-968E-C0B8FC37A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680380-AC7C-4DA8-8C5A-3F69491E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8A062A-79E9-464E-BE44-041D54C4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B766B5-A028-4CA4-82B1-2F2CD110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9ACE52-BA1F-4E57-ADDC-C97AF84E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EEDD0F-5E48-443C-AD0C-5D4D7F859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A6E2C6-981E-4858-8740-A06D6BF33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4D0B5E-0898-428B-A273-1B6F4F84B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F75367-356A-45BC-90D0-25A12C140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BAE1A-186B-4B65-A23D-70ABAD28E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CB50DD-0EE6-4D25-8E4A-6C9CFFF50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81CBC0-5801-4DEE-8389-C092CAF05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3C786F-D9F1-4685-AF5D-5FE26F490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EAB041-5304-4433-A89B-9721B852F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4E0C0D-E11F-4B0C-A655-5B0B99ACD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F5858C-D00B-4186-9097-23262FF8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7D7B67-29FD-42FC-81EC-4A56BDCD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EB6986-6663-4153-B245-AF458977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7E5F28-5639-4B9D-B6C9-76622C685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3390AF-873E-4542-A5DA-7AE24D53F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32191-63EB-4E88-BDDA-24371F987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210C59-E9A8-4D7C-B095-7789F1414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7B6575-26A3-45B2-9690-B9DEC0A63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AB73EA-BD08-414E-A792-A54ABF7CE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7575C6-89EE-49D9-9278-22F31E3EE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2A5734-450A-4B59-8FB0-D253FF237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E7569B-6FFD-4ED5-978E-1FCC0C644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8D8DBD-58A8-4ABA-B3BB-D0CBBB28A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CAC611-E780-4712-8A0E-62386255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B5263D-3216-4DDF-832A-03D8237D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59DCA9-979A-4319-93E3-6977A811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2F60C-8203-4DA2-81B8-76E143C1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8006EC-1E65-4BCF-A334-D0690E516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C06DCA-C020-4B2B-BCD2-6F6D726A5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EEECF9-AA76-4626-9A78-23D185CBE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975638-6583-4F01-983B-58B2EF7B5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5A96A4-C00A-4830-AC86-03893EA65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8C957E-6CAF-4BB5-B92A-B31FF7EFF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2A6757-908D-46BD-A92F-EDD22A2C1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F6085A-397B-431D-AC41-570E530EC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75D4A7-408B-45CD-9C27-E246D774C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6A4A64-4C91-4465-BD84-FCB4DF7B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79F64-0848-4365-8DCB-6C32650A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9656EC-20A4-4A1B-B4FB-201EEE42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9A2719-3A04-41CC-BDA3-C0679753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2C19A1-77BA-407A-9C49-3E6F3E6BE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0C37CD-2187-4D8A-8C39-F6A404492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DFBDA9-E9D8-4004-B284-B89807D6D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D4273C-4926-4675-8FA5-226423D73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ABE1AB-2E06-428A-A493-3F7DF5480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756600-955E-4D87-9075-72F236816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62B061-B42E-4D38-9480-47DDFDC87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7F35B8-A617-46E2-ADF3-B56B8D00C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D9A76-EF32-4EB6-A96C-039C0CB4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34FFD6-360C-4E77-90A6-D6A7FFE57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C699E8-EDE3-4C67-942E-677A901E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DA4528-AF2D-45D6-AC30-E4ECB047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FCF39E-A2FD-481F-9522-1677F1DE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491370-12A5-46C6-BAB6-BA51B7782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B156CE-82DF-4136-88C8-FDC9B4743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890081-2AD3-41DD-A536-E73A281B4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FCDDE6-8078-4D75-AD0B-555B9F926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70C589-CBE8-4DAC-929D-63F8B65F9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7C294C-DD09-4D94-9B54-40E674CAE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B09A6-9FDD-4593-8C9B-EFE8BBD3F6E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CAACB-D649-403C-8AA4-D100BAE38AB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ftr" idx="30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3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59276-3A20-4100-9D0B-A0F0B1C97D3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ftr" idx="3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94993-7B46-4440-BD8D-CC876C9C55B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ftr" idx="3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3A572-9C6F-49C5-B5A0-C5ACDDF9995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1C611-3CA1-4DAB-9E54-D737B41FB8C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1B0CA-ADF1-433C-8A58-E97FE342036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16EC7-1AE8-40D9-9303-6FE99462A49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6FECC-9B7C-4C32-B3B5-7669B24AED9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26A72-263D-4EC6-83EA-6A2B95C6B37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ftr" idx="2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3030F-D04A-49FE-BE67-E97A3ED84BE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ftr" idx="24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F78A4-F1B2-44B4-9087-9A11647E4E5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ftr" idx="2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Garamond"/>
              </a:rPr>
              <a:t>Отечественная война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1" name="Text Box 4"/>
          <p:cNvSpPr/>
          <p:nvPr/>
        </p:nvSpPr>
        <p:spPr>
          <a:xfrm>
            <a:off x="3276720" y="1484280"/>
            <a:ext cx="208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2" name="Text Box 5"/>
          <p:cNvSpPr/>
          <p:nvPr/>
        </p:nvSpPr>
        <p:spPr>
          <a:xfrm>
            <a:off x="3429000" y="857160"/>
            <a:ext cx="266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Garamond"/>
              </a:rPr>
              <a:t>1812 г.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13" name="Picture 2" descr=""/>
          <p:cNvPicPr/>
          <p:nvPr/>
        </p:nvPicPr>
        <p:blipFill>
          <a:blip r:embed="rId1"/>
          <a:stretch/>
        </p:blipFill>
        <p:spPr>
          <a:xfrm>
            <a:off x="214200" y="1714680"/>
            <a:ext cx="8582040" cy="3786120"/>
          </a:xfrm>
          <a:prstGeom prst="rect">
            <a:avLst/>
          </a:prstGeom>
          <a:ln w="0">
            <a:noFill/>
          </a:ln>
        </p:spPr>
      </p:pic>
      <p:sp>
        <p:nvSpPr>
          <p:cNvPr id="514" name="Rectangle 7"/>
          <p:cNvSpPr/>
          <p:nvPr/>
        </p:nvSpPr>
        <p:spPr>
          <a:xfrm>
            <a:off x="9360" y="5646960"/>
            <a:ext cx="332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акая же гроза нависла над Россией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5" name="Прямоугольник 6"/>
          <p:cNvSpPr/>
          <p:nvPr/>
        </p:nvSpPr>
        <p:spPr>
          <a:xfrm>
            <a:off x="3147480" y="5929200"/>
            <a:ext cx="30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ак называлась война 1812 года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6" name="Rectangle 8"/>
          <p:cNvSpPr/>
          <p:nvPr/>
        </p:nvSpPr>
        <p:spPr>
          <a:xfrm>
            <a:off x="5797080" y="6358320"/>
            <a:ext cx="313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чему эта война так называлась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5" descr=""/>
          <p:cNvPicPr/>
          <p:nvPr/>
        </p:nvPicPr>
        <p:blipFill>
          <a:blip r:embed="rId1"/>
          <a:srcRect l="24202" t="0" r="23390" b="34782"/>
          <a:stretch/>
        </p:blipFill>
        <p:spPr>
          <a:xfrm>
            <a:off x="6215040" y="428760"/>
            <a:ext cx="2500200" cy="32860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6" descr=""/>
          <p:cNvPicPr/>
          <p:nvPr/>
        </p:nvPicPr>
        <p:blipFill>
          <a:blip r:embed="rId2"/>
          <a:srcRect l="9470" t="0" r="2926" b="0"/>
          <a:stretch/>
        </p:blipFill>
        <p:spPr>
          <a:xfrm>
            <a:off x="285840" y="428760"/>
            <a:ext cx="2643120" cy="335736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7" descr=""/>
          <p:cNvPicPr/>
          <p:nvPr/>
        </p:nvPicPr>
        <p:blipFill>
          <a:blip r:embed="rId3"/>
          <a:srcRect l="29628" t="0" r="19772" b="39547"/>
          <a:stretch/>
        </p:blipFill>
        <p:spPr>
          <a:xfrm>
            <a:off x="3357720" y="2071800"/>
            <a:ext cx="2500200" cy="3324240"/>
          </a:xfrm>
          <a:prstGeom prst="rect">
            <a:avLst/>
          </a:prstGeom>
          <a:ln w="0">
            <a:noFill/>
          </a:ln>
        </p:spPr>
      </p:pic>
      <p:sp>
        <p:nvSpPr>
          <p:cNvPr id="520" name="TextBox 7"/>
          <p:cNvSpPr/>
          <p:nvPr/>
        </p:nvSpPr>
        <p:spPr>
          <a:xfrm>
            <a:off x="142920" y="4429080"/>
            <a:ext cx="307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Михаил Илларионович Кутуз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1" name="TextBox 8"/>
          <p:cNvSpPr/>
          <p:nvPr/>
        </p:nvSpPr>
        <p:spPr>
          <a:xfrm>
            <a:off x="3357720" y="571680"/>
            <a:ext cx="235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aramond"/>
              </a:rPr>
              <a:t>Наполеон Бонапарт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2" name="TextBox 9"/>
          <p:cNvSpPr/>
          <p:nvPr/>
        </p:nvSpPr>
        <p:spPr>
          <a:xfrm>
            <a:off x="6429240" y="4357800"/>
            <a:ext cx="271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aramond"/>
              </a:rPr>
              <a:t>Император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3" name="Rectangle 9"/>
          <p:cNvSpPr/>
          <p:nvPr/>
        </p:nvSpPr>
        <p:spPr>
          <a:xfrm>
            <a:off x="10800" y="6005520"/>
            <a:ext cx="5639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то командовал русской армией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звали императора Франции, чьи войска вторглись в Россию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вы думаете, кто изображен на третьем портрете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0" y="8568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00"/>
                </a:solidFill>
                <a:latin typeface="Garamond"/>
              </a:rPr>
              <a:t>Император-освободитель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5" name="Text Box 4"/>
          <p:cNvSpPr/>
          <p:nvPr/>
        </p:nvSpPr>
        <p:spPr>
          <a:xfrm>
            <a:off x="3276720" y="1484280"/>
            <a:ext cx="208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6" name="TextBox 8"/>
          <p:cNvSpPr/>
          <p:nvPr/>
        </p:nvSpPr>
        <p:spPr>
          <a:xfrm>
            <a:off x="0" y="2143080"/>
            <a:ext cx="914400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?</a:t>
            </a:r>
            <a:endParaRPr b="0" lang="en-US" sz="28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2" descr=""/>
          <p:cNvPicPr/>
          <p:nvPr/>
        </p:nvPicPr>
        <p:blipFill>
          <a:blip r:embed="rId1"/>
          <a:srcRect l="0" t="2818" r="2920" b="21516"/>
          <a:stretch/>
        </p:blipFill>
        <p:spPr>
          <a:xfrm>
            <a:off x="357120" y="285840"/>
            <a:ext cx="2714760" cy="3671640"/>
          </a:xfrm>
          <a:prstGeom prst="rect">
            <a:avLst/>
          </a:prstGeom>
          <a:ln w="0">
            <a:noFill/>
          </a:ln>
        </p:spPr>
      </p:pic>
      <p:sp>
        <p:nvSpPr>
          <p:cNvPr id="528" name="Text Box 3"/>
          <p:cNvSpPr/>
          <p:nvPr/>
        </p:nvSpPr>
        <p:spPr>
          <a:xfrm>
            <a:off x="1908000" y="404640"/>
            <a:ext cx="6048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3238560" y="428760"/>
            <a:ext cx="59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Император - освободитель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0" name="Text Box 5"/>
          <p:cNvSpPr/>
          <p:nvPr/>
        </p:nvSpPr>
        <p:spPr>
          <a:xfrm>
            <a:off x="3857760" y="1214280"/>
            <a:ext cx="417492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Garamond"/>
              </a:rPr>
              <a:t>Александр</a:t>
            </a:r>
            <a:r>
              <a:rPr b="1" lang="en-US" sz="5400" spc="-1" strike="noStrike">
                <a:solidFill>
                  <a:srgbClr val="002060"/>
                </a:solidFill>
                <a:latin typeface="Garamond"/>
              </a:rPr>
              <a:t> II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Garamond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1" name="Text Box 6"/>
          <p:cNvSpPr/>
          <p:nvPr/>
        </p:nvSpPr>
        <p:spPr>
          <a:xfrm>
            <a:off x="214200" y="4214880"/>
            <a:ext cx="4714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Garamond"/>
              </a:rPr>
              <a:t>ОТМЕНА КРЕПОСТНОГО ПРАВ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2" name="Text Box 7"/>
          <p:cNvSpPr/>
          <p:nvPr/>
        </p:nvSpPr>
        <p:spPr>
          <a:xfrm>
            <a:off x="4714920" y="4214880"/>
            <a:ext cx="42498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Garamond"/>
              </a:rPr>
              <a:t>19 ФЕВРАЛЯ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Garamond"/>
              </a:rPr>
              <a:t>1861 ГОДА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3" name="Rectangle 9"/>
          <p:cNvSpPr/>
          <p:nvPr/>
        </p:nvSpPr>
        <p:spPr>
          <a:xfrm>
            <a:off x="2520" y="6077160"/>
            <a:ext cx="3164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ак звали императора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огда он правил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чему его назвали освободителем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4" name="Text Box 5"/>
          <p:cNvSpPr/>
          <p:nvPr/>
        </p:nvSpPr>
        <p:spPr>
          <a:xfrm>
            <a:off x="4000680" y="2500200"/>
            <a:ext cx="417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Garamond"/>
              </a:rPr>
              <a:t>1856 - 1887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Европа и Россия во второй половине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XIX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ве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0" y="2331720"/>
            <a:ext cx="450072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много железных дорог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много фабрик и завод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производили и продавали разные товар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48320" y="1785600"/>
            <a:ext cx="44956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одна железная дорог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мало фабрик и завод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покупали товары в Европ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8" name="Text Box 8"/>
          <p:cNvSpPr/>
          <p:nvPr/>
        </p:nvSpPr>
        <p:spPr>
          <a:xfrm>
            <a:off x="1116000" y="1557360"/>
            <a:ext cx="23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Европ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9" name="Text Box 10"/>
          <p:cNvSpPr/>
          <p:nvPr/>
        </p:nvSpPr>
        <p:spPr>
          <a:xfrm>
            <a:off x="5292720" y="155736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Россия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0" name="Прямоугольник 6"/>
          <p:cNvSpPr/>
          <p:nvPr/>
        </p:nvSpPr>
        <p:spPr>
          <a:xfrm>
            <a:off x="-46800" y="4786200"/>
            <a:ext cx="50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вольнонаемные</a:t>
            </a:r>
            <a:r>
              <a:rPr b="1" lang="ru-RU" sz="1800" spc="-1" strike="noStrike">
                <a:solidFill>
                  <a:srgbClr val="000514"/>
                </a:solidFill>
                <a:latin typeface="Garamond"/>
              </a:rPr>
              <a:t>   </a:t>
            </a: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рабоч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1" name="Прямоугольник 7"/>
          <p:cNvSpPr/>
          <p:nvPr/>
        </p:nvSpPr>
        <p:spPr>
          <a:xfrm>
            <a:off x="4595040" y="4786200"/>
            <a:ext cx="447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крепостные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крестьян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2" name="Прямоугольник 8"/>
          <p:cNvSpPr/>
          <p:nvPr/>
        </p:nvSpPr>
        <p:spPr>
          <a:xfrm>
            <a:off x="0" y="6058080"/>
            <a:ext cx="914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узнали о России и Европе второй половины XIX века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отрите, как отличалась по своему развитию Россия от Европы во второй половине XIX века.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 причем же здесь крепостное право? 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77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770" fill="hold"/>
                                        <p:tgtEl>
                                          <p:spTgt spid="5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" dur="77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77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" dur="770" fill="hold"/>
                                        <p:tgtEl>
                                          <p:spTgt spid="5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" dur="77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2"/>
          <p:cNvSpPr/>
          <p:nvPr/>
        </p:nvSpPr>
        <p:spPr>
          <a:xfrm>
            <a:off x="1908000" y="189000"/>
            <a:ext cx="55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aramond"/>
              </a:rPr>
              <a:t>Реформы Александра </a:t>
            </a:r>
            <a:r>
              <a:rPr b="1" lang="en-US" sz="3600" spc="-1" strike="noStrike">
                <a:solidFill>
                  <a:srgbClr val="002060"/>
                </a:solidFill>
                <a:latin typeface="Garamond"/>
              </a:rPr>
              <a:t>II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24000" y="1557360"/>
            <a:ext cx="3097080" cy="137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отмена крепостного прав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5" name="Text Box 4"/>
          <p:cNvSpPr/>
          <p:nvPr/>
        </p:nvSpPr>
        <p:spPr>
          <a:xfrm>
            <a:off x="5219640" y="1700280"/>
            <a:ext cx="36720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судебная рефор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6" name="Text Box 5"/>
          <p:cNvSpPr/>
          <p:nvPr/>
        </p:nvSpPr>
        <p:spPr>
          <a:xfrm>
            <a:off x="4859280" y="3213000"/>
            <a:ext cx="388944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университетская рефор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7" name="Text Box 6"/>
          <p:cNvSpPr/>
          <p:nvPr/>
        </p:nvSpPr>
        <p:spPr>
          <a:xfrm>
            <a:off x="755640" y="3645000"/>
            <a:ext cx="32400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военная рефор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8" name="Text Box 7"/>
          <p:cNvSpPr/>
          <p:nvPr/>
        </p:nvSpPr>
        <p:spPr>
          <a:xfrm>
            <a:off x="1979640" y="4581360"/>
            <a:ext cx="532908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городская рефор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9" name="Line 8"/>
          <p:cNvSpPr/>
          <p:nvPr/>
        </p:nvSpPr>
        <p:spPr>
          <a:xfrm flipH="1">
            <a:off x="2195640" y="907920"/>
            <a:ext cx="1008000" cy="649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0" name="Line 9"/>
          <p:cNvSpPr/>
          <p:nvPr/>
        </p:nvSpPr>
        <p:spPr>
          <a:xfrm>
            <a:off x="5148360" y="981000"/>
            <a:ext cx="1079280" cy="647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1" name="Line 10"/>
          <p:cNvSpPr/>
          <p:nvPr/>
        </p:nvSpPr>
        <p:spPr>
          <a:xfrm flipH="1">
            <a:off x="3203640" y="981000"/>
            <a:ext cx="936720" cy="2664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2" name="Line 11"/>
          <p:cNvSpPr/>
          <p:nvPr/>
        </p:nvSpPr>
        <p:spPr>
          <a:xfrm>
            <a:off x="4572000" y="981000"/>
            <a:ext cx="720720" cy="2232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3" name="Line 13"/>
          <p:cNvSpPr/>
          <p:nvPr/>
        </p:nvSpPr>
        <p:spPr>
          <a:xfrm>
            <a:off x="4356000" y="981000"/>
            <a:ext cx="0" cy="360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4" name="Text Box 14"/>
          <p:cNvSpPr/>
          <p:nvPr/>
        </p:nvSpPr>
        <p:spPr>
          <a:xfrm>
            <a:off x="571680" y="5214960"/>
            <a:ext cx="8064360" cy="1191240"/>
          </a:xfrm>
          <a:prstGeom prst="rect">
            <a:avLst/>
          </a:prstGeom>
          <a:noFill/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aramond"/>
              </a:rPr>
              <a:t>Россия стремительно догоняла развитые Европейские страны</a:t>
            </a:r>
            <a:r>
              <a:rPr b="1" lang="en-US" sz="3600" spc="-1" strike="noStrike">
                <a:solidFill>
                  <a:srgbClr val="002060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5" name="Rectangle 15"/>
          <p:cNvSpPr/>
          <p:nvPr/>
        </p:nvSpPr>
        <p:spPr>
          <a:xfrm>
            <a:off x="11880" y="6475680"/>
            <a:ext cx="539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ак изменилась жизнь в России во второй половине XIX века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19:38:57Z</dcterms:created>
  <dc:creator>Admin</dc:creator>
  <dc:description/>
  <dc:language>en-US</dc:language>
  <cp:lastModifiedBy>Admin</cp:lastModifiedBy>
  <dcterms:modified xsi:type="dcterms:W3CDTF">2010-04-01T13:16:11Z</dcterms:modified>
  <cp:revision>20</cp:revision>
  <dc:subject/>
  <dc:title>Слайд 1</dc:title>
</cp:coreProperties>
</file>